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857-A154-4B76-858B-5A4795D7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536-D6E8-4A3C-9F94-C2909EB7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01A-6126-409F-9BDA-20FCEBA7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1C0-AF30-470A-906E-2F89C6F1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0F35-FFB7-4283-903A-C7B30310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892-8CB2-4B51-8A4F-EB0A506D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DD9-B8A6-4C68-B1FC-CE76DF1A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8DC-93D1-4623-B9B6-4537CD10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C24-CB7E-48A2-99D9-D3DB8854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EFB-7F24-4507-AA85-273CD1F2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516-6CDF-47FE-BF2D-7CEC9847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0FB-30D5-41DD-9AE7-6CC3B0E0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BB0B-4EB3-4069-8A4A-6492B2D45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LOBALIZZAZION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2349000"/>
            <a:ext cx="6697800" cy="37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43927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16360" y="3645000"/>
            <a:ext cx="237636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IZZAZION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92000">
            <a:off x="250560" y="2276640"/>
            <a:ext cx="2808360" cy="1439640"/>
          </a:xfrm>
          <a:prstGeom prst="rightArrow">
            <a:avLst>
              <a:gd name="adj1" fmla="val 50000"/>
              <a:gd name="adj2" fmla="val 48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zi di tras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1088800">
            <a:off x="250920" y="4221000"/>
            <a:ext cx="2808360" cy="1584360"/>
          </a:xfrm>
          <a:prstGeom prst="rightArrow">
            <a:avLst>
              <a:gd name="adj1" fmla="val 50000"/>
              <a:gd name="adj2" fmla="val 4431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zi di comun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64000" y="4149720"/>
            <a:ext cx="2232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219640" y="2060640"/>
            <a:ext cx="100800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643280" y="1557000"/>
            <a:ext cx="720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1640" y="692280"/>
            <a:ext cx="201456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227640" y="1557360"/>
            <a:ext cx="1222560" cy="93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i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ù sim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435640" y="3644640"/>
            <a:ext cx="23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51640" y="5445000"/>
            <a:ext cx="1548000" cy="1008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85080" y="3357720"/>
            <a:ext cx="125892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940360" y="6093000"/>
            <a:ext cx="144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5734080"/>
            <a:ext cx="1942920" cy="11239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tà multi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8:12:31Z</dcterms:created>
  <dc:creator>studente</dc:creator>
  <dc:description/>
  <dc:language>en-US</dc:language>
  <cp:lastModifiedBy>studente</cp:lastModifiedBy>
  <dcterms:modified xsi:type="dcterms:W3CDTF">2016-12-05T08:52:01Z</dcterms:modified>
  <cp:revision>7</cp:revision>
  <dc:subject/>
  <dc:title>Diapositiva 1</dc:title>
</cp:coreProperties>
</file>